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448-A59B-49CB-B784-16A2FD1C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DC5-BF6A-4F3C-8CAB-595EDCB6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97C-DF6C-482C-A839-DD0F8E6B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889-1BD7-4A3F-861C-5EC3D903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C0C-0E35-4A0A-B1C9-0404914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92C-580D-4096-A0D4-C1AC496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427-CC18-4A96-B409-F633F9D7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89E-B2A3-415A-BEB2-26FC268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13B-7E1C-4E32-8859-E414F4E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57E-1425-4614-A782-9527C32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26D-2AD7-4778-9B3B-9D3FBEE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21D-F031-4B02-854A-1F607BE4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90DE-560B-44ED-BA37-A8D9E483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mes in poetry are the same as themes in short stories, just said in a way which is often less obv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etry has many popular the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s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dentify the th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eing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od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motions do you think the author wanted you to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od can generally be summarized with an 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st some typical moods you find in po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 and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usic does not have words, but is still considered po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poetry is something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okes emotion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the relationship between music and po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guess the theme of thi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you love me, I know you c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hout whenever, and I'll be t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my love, you are my hea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will never, ever, ever be apar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 an item? Girl, quit playin'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e're just friends," what are you sayin'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d "there's another," and looked right in my ey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first love broke my heart for the first tim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was like 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ought you'd always be mine, m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ought you'd always be mine, m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, I would have done whate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just can't believe we're here toge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wanna play it cool, but I'm losin'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uy you anything, I'll buy you any ring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'm in pieces, baby fix 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just shake me 'til you wake me from this bad drea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m goin' down, down, down, d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just can't believe my first love won't be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 link to the music video of this poem…maybe this will help you understand the them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.youku.com/v_show/id_XMzU0NjczMjg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theme of this amazing s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overall m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clues give you the idea about this song’s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end Assig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d your favorite song – any song, English or Chinese; if it’s Chinese you must provide the translation ( use today’s class to locate and identify the song of your ch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a response to literature: provide evidence to identify the theme of your poetry/song.  150-300 words.  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5:04:08Z</dcterms:created>
  <dc:creator>nmt</dc:creator>
  <dc:description/>
  <dc:language>en-US</dc:language>
  <cp:lastModifiedBy>nmt</cp:lastModifiedBy>
  <dcterms:modified xsi:type="dcterms:W3CDTF">2012-03-12T06:07:55Z</dcterms:modified>
  <cp:revision>7</cp:revision>
  <dc:subject/>
  <dc:title>Poetry</dc:title>
</cp:coreProperties>
</file>